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AD86-628D-4A77-B3EB-A4DFE268D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3053-4273-4725-9325-78A4AA8E7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th; rep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53E7-BB70-4098-82BD-D25DDCAB6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(or sugar);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D632-8325-4D95-805C-891173502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1BD1-DDB0-4AF7-86D5-55691F95A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006B-99E3-470F-8DF1-DC649248A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; identical (or exac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6092-7B23-4431-8BFA-5895C0434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tudents thing of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bies grow into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s h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4C6F-5C39-4D7B-A757-5E163B65B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9386-8A4A-4F7C-B866-F3C49C4D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4FD0-6050-4A06-8A4E-DDD5B286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D427-2349-4105-A517-DF7F7348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0D0A-5424-47CF-B238-ADCD60C2C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B46-BEAF-48DA-88C0-DBFE0C87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89FD-62A9-4747-9816-2F117429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7690-0F5C-4AD8-970C-7B97F820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EE86-4B88-41C2-BB13-08F27257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41F6-95A6-4BC4-8D8A-9399DE99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3A3-AFED-41A2-AFF2-97B4477A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56A-1767-4D5E-82C9-B9449BF5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BA1-7B24-42B7-91E3-15CEECCC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F0DA-21B2-4028-84F0-C44E3FB8DAA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 Narrow"/>
              </a:rPr>
              <a:t>Cell Divis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ind me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it 4, #3a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pen me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 Notability, Unit 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ame me: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H#, Last, First, Cell Divis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433600" y="3352680"/>
            <a:ext cx="455148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184720" cy="53341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osomes = Bundles of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 in the _________ (Hint: it stores the D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ve two reasons that cells need to divid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e the cells forme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identica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ifferen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 (circle on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you lear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Narrow"/>
              </a:rPr>
              <a:t>Learning Targe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16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98989"/>
                </a:solidFill>
                <a:latin typeface="Arial"/>
              </a:rPr>
              <a:t>(fill it i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I know that cells divide to make more cells fo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Maiandra GD"/>
              </a:rPr>
              <a:t>__________</a:t>
            </a: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 and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Maiandra GD"/>
              </a:rPr>
              <a:t>__________</a:t>
            </a: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1430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rganelles are cell parts that have a specific jo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ample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hloroplasts: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makes ________ for plant using sun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rge Central Vacuole (LCV):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res ________ for pl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2362320" y="3456000"/>
            <a:ext cx="403848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14300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e nucleus is the organelle that contains the cell’s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t’s very important because it holds all of the information:  it’s kind of like the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f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1981080" y="3429000"/>
            <a:ext cx="487692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Chart 1"/>
          <p:cNvGraphicFramePr/>
          <p:nvPr/>
        </p:nvGraphicFramePr>
        <p:xfrm>
          <a:off x="457200" y="1752480"/>
          <a:ext cx="84088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408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 txBox="1"/>
          <p:nvPr/>
        </p:nvSpPr>
        <p:spPr>
          <a:xfrm>
            <a:off x="457200" y="304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ell Cycle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= The life cycle of a cell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ach cell cycle turns one cell into _____ cell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1142640"/>
            <a:ext cx="8763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itosis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 process of one cell’s _______ dividing into tw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s allows the cell to make _________ copies of itsel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708660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o cells go through the Cell Cycl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2280" y="1598760"/>
            <a:ext cx="883944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ls must divide (make new cells) for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an organism can get bigg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replace missing, dead, old or worn out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8"/>
          <p:cNvSpPr/>
          <p:nvPr/>
        </p:nvSpPr>
        <p:spPr>
          <a:xfrm>
            <a:off x="3886200" y="533520"/>
            <a:ext cx="1371600" cy="137160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3"/>
          <p:cNvSpPr/>
          <p:nvPr/>
        </p:nvSpPr>
        <p:spPr>
          <a:xfrm>
            <a:off x="6248520" y="4038480"/>
            <a:ext cx="1371600" cy="137160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4"/>
          <p:cNvSpPr/>
          <p:nvPr/>
        </p:nvSpPr>
        <p:spPr>
          <a:xfrm>
            <a:off x="6248520" y="1523880"/>
            <a:ext cx="1371600" cy="137160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5"/>
          <p:cNvSpPr/>
          <p:nvPr/>
        </p:nvSpPr>
        <p:spPr>
          <a:xfrm>
            <a:off x="685800" y="1447920"/>
            <a:ext cx="1219320" cy="114300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7"/>
          <p:cNvSpPr/>
          <p:nvPr/>
        </p:nvSpPr>
        <p:spPr>
          <a:xfrm rot="1552800">
            <a:off x="5257800" y="1219320"/>
            <a:ext cx="1216080" cy="60948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8"/>
          <p:cNvSpPr/>
          <p:nvPr/>
        </p:nvSpPr>
        <p:spPr>
          <a:xfrm rot="12984000">
            <a:off x="2444400" y="5033520"/>
            <a:ext cx="1438200" cy="609840"/>
          </a:xfrm>
          <a:prstGeom prst="rightArrow">
            <a:avLst>
              <a:gd name="adj1" fmla="val 50000"/>
              <a:gd name="adj2" fmla="val 5895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9"/>
          <p:cNvSpPr/>
          <p:nvPr/>
        </p:nvSpPr>
        <p:spPr>
          <a:xfrm rot="5400000">
            <a:off x="6362280" y="3162240"/>
            <a:ext cx="1143000" cy="609480"/>
          </a:xfrm>
          <a:prstGeom prst="rightArrow">
            <a:avLst>
              <a:gd name="adj1" fmla="val 50000"/>
              <a:gd name="adj2" fmla="val 4688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0"/>
          <p:cNvSpPr/>
          <p:nvPr/>
        </p:nvSpPr>
        <p:spPr>
          <a:xfrm rot="8730000">
            <a:off x="5485680" y="5257440"/>
            <a:ext cx="1143000" cy="609480"/>
          </a:xfrm>
          <a:prstGeom prst="rightArrow">
            <a:avLst>
              <a:gd name="adj1" fmla="val 50000"/>
              <a:gd name="adj2" fmla="val 4688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1"/>
          <p:cNvSpPr/>
          <p:nvPr/>
        </p:nvSpPr>
        <p:spPr>
          <a:xfrm rot="16200000">
            <a:off x="1218960" y="2971800"/>
            <a:ext cx="1371600" cy="609480"/>
          </a:xfrm>
          <a:prstGeom prst="rightArrow">
            <a:avLst>
              <a:gd name="adj1" fmla="val 50000"/>
              <a:gd name="adj2" fmla="val 5626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2"/>
          <p:cNvSpPr/>
          <p:nvPr/>
        </p:nvSpPr>
        <p:spPr>
          <a:xfrm rot="20053800">
            <a:off x="2590920" y="1218960"/>
            <a:ext cx="1365120" cy="609480"/>
          </a:xfrm>
          <a:prstGeom prst="rightArrow">
            <a:avLst>
              <a:gd name="adj1" fmla="val 50000"/>
              <a:gd name="adj2" fmla="val 5599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3"/>
          <p:cNvSpPr/>
          <p:nvPr/>
        </p:nvSpPr>
        <p:spPr>
          <a:xfrm rot="20188800">
            <a:off x="990360" y="3809520"/>
            <a:ext cx="2743200" cy="114300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2"/>
          <p:cNvSpPr/>
          <p:nvPr/>
        </p:nvSpPr>
        <p:spPr>
          <a:xfrm>
            <a:off x="3733920" y="5105520"/>
            <a:ext cx="1828800" cy="137160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8"/>
          <p:cNvSpPr/>
          <p:nvPr/>
        </p:nvSpPr>
        <p:spPr>
          <a:xfrm>
            <a:off x="1981080" y="1905120"/>
            <a:ext cx="1219320" cy="114300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3"/>
          <p:cNvGrpSpPr/>
          <p:nvPr/>
        </p:nvGrpSpPr>
        <p:grpSpPr>
          <a:xfrm>
            <a:off x="1956960" y="-176400"/>
            <a:ext cx="1724760" cy="1724760"/>
            <a:chOff x="1956960" y="-176400"/>
            <a:chExt cx="1724760" cy="1724760"/>
          </a:xfrm>
        </p:grpSpPr>
        <p:sp>
          <p:nvSpPr>
            <p:cNvPr id="81" name="AutoShape 40"/>
            <p:cNvSpPr/>
            <p:nvPr/>
          </p:nvSpPr>
          <p:spPr>
            <a:xfrm>
              <a:off x="2133720" y="0"/>
              <a:ext cx="1218960" cy="1371600"/>
            </a:xfrm>
            <a:prstGeom prst="wedgeEllipseCallout">
              <a:avLst>
                <a:gd name="adj1" fmla="val -59763"/>
                <a:gd name="adj2" fmla="val 100115"/>
              </a:avLst>
            </a:prstGeom>
            <a:solidFill>
              <a:srgbClr val="4f81bd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41"/>
            <p:cNvSpPr/>
            <p:nvPr/>
          </p:nvSpPr>
          <p:spPr>
            <a:xfrm rot="15133800">
              <a:off x="2133360" y="0"/>
              <a:ext cx="1371600" cy="1371600"/>
            </a:xfrm>
            <a:prstGeom prst="wedgeEllipseCallout">
              <a:avLst>
                <a:gd name="adj1" fmla="val -39087"/>
                <a:gd name="adj2" fmla="val 72671"/>
              </a:avLst>
            </a:prstGeom>
            <a:solidFill>
              <a:srgbClr val="4f81bd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42"/>
            <p:cNvSpPr/>
            <p:nvPr/>
          </p:nvSpPr>
          <p:spPr>
            <a:xfrm>
              <a:off x="2057400" y="38088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NETICALLY IDENTICAL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t each step of this process, changes are happening with the cell’s chromosom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6:36:54Z</dcterms:created>
  <dc:creator>ELemke</dc:creator>
  <dc:description/>
  <dc:language>en-US</dc:language>
  <cp:lastModifiedBy>User</cp:lastModifiedBy>
  <dcterms:modified xsi:type="dcterms:W3CDTF">2013-10-28T16:37:22Z</dcterms:modified>
  <cp:revision>65</cp:revision>
  <dc:subject/>
  <dc:title>MITOSIS</dc:title>
</cp:coreProperties>
</file>